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5A2-69F8-4CE6-9008-C0D88842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85DE-51A0-49F6-9BB7-C96BFA31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E54-A0C5-43BE-86EF-DDF5380B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AD17-B4B5-43E6-85DD-4341A49E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97F-AF85-4F98-A4BC-C4972E72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E00-D9D1-4057-8F19-27FBE50C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8E3-5751-4491-9C82-C63A1143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3C8-5F6C-4F80-B580-362FDC87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D18A-1940-4CE8-A191-C6CF3767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008-EA9C-4414-B8C0-BD787D00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34B-4007-42CE-8B6F-61FAE6A9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4BA-E969-4A4C-AF4F-B5048062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265B-89A1-43E0-A92F-09CD16E1F9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hapter 16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AGONY OF RECONSTRUC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160" y="4572000"/>
            <a:ext cx="7924680" cy="17524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00000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Bree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Fredrickso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William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Br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65800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construc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74" name="Picture 7" descr="DIVI7233327"/>
          <p:cNvPicPr/>
          <p:nvPr/>
        </p:nvPicPr>
        <p:blipFill>
          <a:blip r:embed="rId2"/>
          <a:stretch/>
        </p:blipFill>
        <p:spPr>
          <a:xfrm>
            <a:off x="533520" y="1752480"/>
            <a:ext cx="8076960" cy="479592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Impeachment Crisi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 obstructs Congressional Re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limits Presidential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ure of Office 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, 1868: Congress impe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ate refuses to convict John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cal Republicans seen as subversive of Constitution, lose public suppo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Reconstructing Southern Society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contending interests in Sou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thern whites seek to keep newly freed blacks inf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thern whites seek to make money or to "civilize" the re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s seek e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line of federal interest in Reconstruction permits triumph of reaction and rac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organizing Land and Labor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56390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-slaves wish to work their own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government sometimes grant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 reverts to white owners under John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eowners try to impose contract lab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s insist on sharecro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cropping soon becomes peon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Black Codes: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 New Name for Slavery?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314440"/>
            <a:ext cx="8229600" cy="37814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increasingly segregated after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 Codes designed to return blacks to quasi-sla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s overturned by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ce and discrimination continued on a large sc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publican Rule in the South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56386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7: Southern Republican party organ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people want government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farmers want protection from cred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s form majority of party, want social and political e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 coalition uns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break up when whites le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Republican Rule in the South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improve public education, welfare, and transpor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 state legislatures corru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s control most radical state gover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Americans given blame for corru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Claiming Public and Private Rights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59000"/>
            <a:ext cx="8229600" cy="38368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d slaves viewed legalized marriage as an important step in claiming political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lso formed churches, fraternal and benevolent associations, political organizations, and sch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 for children was a top p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treat from Reconstruc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ormous problems 1868–187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nt’s weak principles contribute to fail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ise of the Money Ques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ic of 1873 raises “the money question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tors seek inflationary monetary policy by continuing circulation of "greenbacks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ors, intellectuals support hard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75: government commits to hard 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76: Greenback party formed, makes gains in congressional r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President Versus Congres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orth split on reconstructing the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te House seeks speedy reconstruction with minimum changes in the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seeks slower reconstruction, demands protection for freed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Election of 1868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10" name="Picture 8" descr="DIVI7233TB1602"/>
          <p:cNvPicPr/>
          <p:nvPr/>
        </p:nvPicPr>
        <p:blipFill>
          <a:blip r:embed="rId2"/>
          <a:srcRect l="0" t="16466" r="0" b="0"/>
          <a:stretch/>
        </p:blipFill>
        <p:spPr>
          <a:xfrm>
            <a:off x="304920" y="2362320"/>
            <a:ext cx="8610480" cy="309240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Final Efforts of Reconstruc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9: Fifteenth Amendment pa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enfranchised Northern bl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’s rights group were upset that they were not granted the v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support for black citizenship wa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A Reign of Terror Against Blacks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60962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ret societies used terror tactics to keep blacks out of the political process and near  insurrections against state gover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70s: Congress tries to suppress Ku Klux Klan, other Southern terrorist grou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876 Republicans control only South Carolina, Louisiana, and Flor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support for military action w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Spoilsmen Versus Reformer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mors of corruption during Grant's first term discredit Republi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72: Grant wins reelection over Liberal Republican, Democrat Horace Greele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nt’s second term rocked by scand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Election of 1872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22" name="Picture 4" descr="DIVI7233TB1603"/>
          <p:cNvPicPr/>
          <p:nvPr/>
        </p:nvPicPr>
        <p:blipFill>
          <a:blip r:embed="rId2"/>
          <a:srcRect l="0" t="13027" r="0" b="0"/>
          <a:stretch/>
        </p:blipFill>
        <p:spPr>
          <a:xfrm>
            <a:off x="457200" y="1905120"/>
            <a:ext cx="8305920" cy="406872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union and the New South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nd South reconcile after 187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 of  reconcil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Americans stripped of political g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 business interests favored over small far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Compromise of 1877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on of 1876 dispu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Congressional commission gives disputed vote to Rutherford B. Ha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Democrats accept on two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arantee of federal aid to the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al of all remaining federal tro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yes’ agreement ends Re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DIVI7233338"/>
          <p:cNvPicPr/>
          <p:nvPr/>
        </p:nvPicPr>
        <p:blipFill>
          <a:blip r:embed="rId2"/>
          <a:stretch/>
        </p:blipFill>
        <p:spPr>
          <a:xfrm>
            <a:off x="2133720" y="762120"/>
            <a:ext cx="4860720" cy="533376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deeming” a New South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"Redeemers" not ideologically coherent, more power brokers between major interest groups commerce,  manufacturing, and agri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power by doctrine of white supremac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lect problems of small far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Rise of Jim Crow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eemer Democrats systematically exclude black vot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im Crow laws legalize segregation and restrict black civil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910 the process was comp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orth and the federal government did little or nothing to preven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Wartime Reconstruc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announces lenient policy in 186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resents Lincoln’s effort to contr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men seek to condition readmission to Union on black suffr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mistrusts white Souther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Rise of Jim Crow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56390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nching—187 blacks lynched yearly 1889–18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Supreme Court decisions gut Reconstruction Amendments 1875–189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union” accomplished as North tacitly acquiesces in Southern discri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Henry McNeal Turner and the “Unfinished Revolution”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McNeal Turner’s career summarized the Southern black experience during and after Reco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upported the Union during the war and was elected to GA legislature in Reco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eemed” GA legislature expels him, exemplifying Northerners tacit approval of  oppression of Southern bl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er becomes A.M.E. bishop and major proponent of black emigration to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ndrew Johnson at the Helm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533412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initially support Southern Democrat Johnson as enemy of planter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, Republicans split on Re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 instructs Southern convention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lare secession il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udiate Confederate deb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fy the Thirteenth Amend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ndrew Johnson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t the Helm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576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conventions reluctantly carry out Johnson’s 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ntions pass “Black Cod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 approves conventions’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condemns con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ongress Takes the Initiative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8229600" cy="39970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insist on black suff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expect to get black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ological commitment to equal rights, even if some did not believe in racial equa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 that South would fall under great planter control without black suff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ongress Takes the Initiative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56390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6: Johnson vetoes two bi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 of Freedmen’s Bure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vil rights bill to overturn Black C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pass Fourteenth Amend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’s National Union party runs against Republican congressmen in el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ons of 1866 strengthen Republi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ongressional Reconstruction Plan Enacted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under military rule until black suffrage fully sec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lit over duration of federal pro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cals recognize need for long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wish military occupation to be sh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umption:  black suffrage sufficient to empower freedmen to protect themsel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8" descr="DIVI7233TB1601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77532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21:28Z</dcterms:created>
  <dc:creator>CMU</dc:creator>
  <dc:description/>
  <cp:keywords/>
  <dc:language>en-US</dc:language>
  <cp:lastModifiedBy>Matthew Myers</cp:lastModifiedBy>
  <cp:lastPrinted>2012-05-30T00:40:02Z</cp:lastPrinted>
  <dcterms:modified xsi:type="dcterms:W3CDTF">2010-11-24T15:44:44Z</dcterms:modified>
  <cp:revision>11</cp:revision>
  <dc:subject/>
  <dc:title>THE AGONY OF RECONSTRUCTION</dc:title>
</cp:coreProperties>
</file>